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A7DC-4B7C-4102-8FF8-08CB5F019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9225-4115-48EE-8D66-87D16AF6B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2E37-0DF7-4F3C-95A0-F1FA089D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0DF5-2A6E-4EBD-BC66-1255E569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51FD-2D17-4BCD-A346-6B71E3AD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E225-60A0-4109-9302-B1766434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87BC-4C8B-4D04-98DA-EA855CC6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0E6-32B0-4D05-9FBD-C6D300CA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33EE-C33F-4CF8-AF10-E0A0AE02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4D30-7069-4D3A-BF43-458E59E4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9916-4F14-4854-B74C-08639B05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CD0-17C0-457C-98A1-73F155B3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B98-C332-4E1F-A077-0127591E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690C-2A4B-42E1-BF2C-5EBDF447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F186-235B-41A2-8ACC-2EED315C2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image" Target="../media/image1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1.jpeg"/><Relationship Id="rId11" Type="http://schemas.openxmlformats.org/officeDocument/2006/relationships/image" Target="../media/image4.jpeg"/><Relationship Id="rId12" Type="http://schemas.openxmlformats.org/officeDocument/2006/relationships/image" Target="../media/image3.jpe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Kiara Zapa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04840" y="44578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427040" y="60022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Ze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Kiara. Yo vivo en NYC. Yo soy catorce años. Tengo tres hermanas. Estoy buena y feliz.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76160" y="519444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rm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781200" y="6019920"/>
            <a:ext cx="62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447920" y="51814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68760" y="3813120"/>
            <a:ext cx="45720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Gracias, Niall! Él es lindo. Eres bueno. Amas tu cabello. Quiero vivir en Londre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uestro tiene helado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: 10 second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3195720"/>
            <a:ext cx="45720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y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¿Dónde está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? todos ellos están aquí! Tenemo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ado.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iero vivir en lond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ambién. Su helado es agradabl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90920"/>
            <a:ext cx="4562640" cy="5126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</a:t>
            </a: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Carmela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u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ándo estamos va para rato?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Nuestra amigos tiene un gato. ¿Por qué no estás aquí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remos vivirlondres en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Te guesta : Commentario:      1 hour ag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495680"/>
            <a:ext cx="45720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Ella es bonita, cómico, Inteligente, y enérgica! De nada.tu quiernes vives en Londre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6483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¡Buenas tardes! estoy bien y tu?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engo que hacer los deberes.:/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iero helado.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42 minute a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5720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 1 hour ago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♡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232200" y="5924520"/>
            <a:ext cx="49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i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9" descr="C:\Documents and Settings\Beth\Desktop\291718_3499100816440_1116569674_n.jpg"/>
          <p:cNvPicPr/>
          <p:nvPr/>
        </p:nvPicPr>
        <p:blipFill>
          <a:blip r:embed="rId1"/>
          <a:stretch/>
        </p:blipFill>
        <p:spPr>
          <a:xfrm>
            <a:off x="84240" y="14479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-1.png"/>
          <p:cNvPicPr/>
          <p:nvPr/>
        </p:nvPicPr>
        <p:blipFill>
          <a:blip r:embed="rId2"/>
          <a:stretch/>
        </p:blipFill>
        <p:spPr>
          <a:xfrm>
            <a:off x="1427040" y="5580000"/>
            <a:ext cx="533520" cy="398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63746_3814720258609_1445561697_n.jpeg"/>
          <p:cNvPicPr/>
          <p:nvPr/>
        </p:nvPicPr>
        <p:blipFill>
          <a:blip r:embed="rId3"/>
          <a:stretch/>
        </p:blipFill>
        <p:spPr>
          <a:xfrm>
            <a:off x="838080" y="4724280"/>
            <a:ext cx="457200" cy="452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3393_449325755108868_272922463_n.jpeg"/>
          <p:cNvPicPr/>
          <p:nvPr/>
        </p:nvPicPr>
        <p:blipFill>
          <a:blip r:embed="rId4"/>
          <a:stretch/>
        </p:blipFill>
        <p:spPr>
          <a:xfrm>
            <a:off x="1447920" y="4740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Photo on 12-4-12 at 9.00 AM #2.jpg"/>
          <p:cNvPicPr/>
          <p:nvPr/>
        </p:nvPicPr>
        <p:blipFill>
          <a:blip r:embed="rId5"/>
          <a:srcRect l="67230" t="27732" r="-836" b="26892"/>
          <a:stretch/>
        </p:blipFill>
        <p:spPr>
          <a:xfrm>
            <a:off x="839880" y="5562720"/>
            <a:ext cx="507960" cy="457200"/>
          </a:xfrm>
          <a:prstGeom prst="rect">
            <a:avLst/>
          </a:prstGeom>
          <a:ln w="0">
            <a:noFill/>
          </a:ln>
        </p:spPr>
      </p:pic>
      <p:sp>
        <p:nvSpPr>
          <p:cNvPr id="99" name="TextBox 60"/>
          <p:cNvSpPr/>
          <p:nvPr/>
        </p:nvSpPr>
        <p:spPr>
          <a:xfrm>
            <a:off x="2851560" y="6095880"/>
            <a:ext cx="412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¡Buenos días! Añádeme como amigo? ¿Cómo estás?Somos es bon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1"/>
          <p:cNvSpPr/>
          <p:nvPr/>
        </p:nvSpPr>
        <p:spPr>
          <a:xfrm>
            <a:off x="6708600" y="6019920"/>
            <a:ext cx="7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Ze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2" descr="-1.png"/>
          <p:cNvPicPr/>
          <p:nvPr/>
        </p:nvPicPr>
        <p:blipFill>
          <a:blip r:embed="rId6"/>
          <a:stretch/>
        </p:blipFill>
        <p:spPr>
          <a:xfrm>
            <a:off x="2157480" y="6094440"/>
            <a:ext cx="512640" cy="382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9" descr="C:\Documents and Settings\Beth\Desktop\291718_3499100816440_1116569674_n.jpg"/>
          <p:cNvPicPr/>
          <p:nvPr/>
        </p:nvPicPr>
        <p:blipFill>
          <a:blip r:embed="rId7"/>
          <a:stretch/>
        </p:blipFill>
        <p:spPr>
          <a:xfrm>
            <a:off x="2165400" y="5289480"/>
            <a:ext cx="425520" cy="42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imgres.jpeg"/>
          <p:cNvPicPr/>
          <p:nvPr/>
        </p:nvPicPr>
        <p:blipFill>
          <a:blip r:embed="rId8"/>
          <a:stretch/>
        </p:blipFill>
        <p:spPr>
          <a:xfrm>
            <a:off x="228600" y="4721400"/>
            <a:ext cx="442800" cy="4554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248400" y="517356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i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4" descr="imgres.jpeg"/>
          <p:cNvPicPr/>
          <p:nvPr/>
        </p:nvPicPr>
        <p:blipFill>
          <a:blip r:embed="rId9"/>
          <a:stretch/>
        </p:blipFill>
        <p:spPr>
          <a:xfrm>
            <a:off x="2133720" y="4495680"/>
            <a:ext cx="442800" cy="455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9" descr="C:\Documents and Settings\Beth\Desktop\291718_3499100816440_1116569674_n.jpg"/>
          <p:cNvPicPr/>
          <p:nvPr/>
        </p:nvPicPr>
        <p:blipFill>
          <a:blip r:embed="rId10"/>
          <a:stretch/>
        </p:blipFill>
        <p:spPr>
          <a:xfrm>
            <a:off x="2133720" y="3886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6709680" y="51814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6708960" y="4419720"/>
            <a:ext cx="69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6603840" y="3795840"/>
            <a:ext cx="70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3393_449325755108868_272922463_n.jpeg"/>
          <p:cNvPicPr/>
          <p:nvPr/>
        </p:nvPicPr>
        <p:blipFill>
          <a:blip r:embed="rId11"/>
          <a:stretch/>
        </p:blipFill>
        <p:spPr>
          <a:xfrm>
            <a:off x="2192400" y="3240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63746_3814720258609_1445561697_n.jpeg"/>
          <p:cNvPicPr/>
          <p:nvPr/>
        </p:nvPicPr>
        <p:blipFill>
          <a:blip r:embed="rId12"/>
          <a:stretch/>
        </p:blipFill>
        <p:spPr>
          <a:xfrm>
            <a:off x="2149560" y="2519280"/>
            <a:ext cx="457200" cy="452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8" descr="C:\Documents and Settings\Beth\Desktop\598555_198774986914112_124519432_n.jpg"/>
          <p:cNvPicPr/>
          <p:nvPr/>
        </p:nvPicPr>
        <p:blipFill>
          <a:blip r:embed="rId13"/>
          <a:stretch/>
        </p:blipFill>
        <p:spPr>
          <a:xfrm>
            <a:off x="277920" y="5562720"/>
            <a:ext cx="37764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49:32Z</dcterms:created>
  <dc:creator>FriscoISD</dc:creator>
  <dc:description/>
  <dc:language>en-US</dc:language>
  <cp:lastModifiedBy>User</cp:lastModifiedBy>
  <dcterms:modified xsi:type="dcterms:W3CDTF">2013-01-02T13:58:45Z</dcterms:modified>
  <cp:revision>116</cp:revision>
  <dc:subject/>
  <dc:title>Profile</dc:title>
</cp:coreProperties>
</file>